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595-79E6-403D-B1D4-620113F9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44F-9162-4C1F-A69F-FA81D112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9F8-9C10-4DCF-B0FF-3E6A8BDF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3EC-C2C7-42AB-B3A5-9A6018D8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E56-1A08-47E5-9E5B-FED5CF27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456-803A-45A4-B405-4C160222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2B9-337E-4572-BDEF-6D3502C2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18A-D328-464A-98A6-68F250C0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881-4110-4332-A4EC-826EB6D6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825-2615-4C40-806D-CFBD6CA4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168-87D9-42CA-9CC5-3F08ED95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004-5810-49EB-8054-380ED453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7535-6E93-4A36-96AB-4AEF6F15D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Siberian Railro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avana, Kate Noble, and 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ting on the TS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taking the Moscow-Irkutsk route which go from Moscow to Irkutsk the train stopped for 20-30 minutes every 3 to 4 hours and we would get off the train and people on platforms would offer drinks and food. This was great because it would crave our hunger while on the tr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roslav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ng the TSRR the we first saw the city of Yaroslavl, is one of the oldest cities in Russia. Yaroslavl is wealthy and has a lot of beautiful chur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ing On the TS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SRR is divided in to different classes First Class is the most comfortable and expensive each cabin has 2 couches that can turn in to beds. Second Class has 4 beds and 1 bathroom that is share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little less expensive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is smaller with only a little privacy and small narrow hallwa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kut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kutsk is another wealthy trading city. Irkutsk is a major attraction because of Lake Baikal and that is why it is a tradin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47:18Z</dcterms:created>
  <dc:creator>annablock</dc:creator>
  <dc:description/>
  <dc:language>en-US</dc:language>
  <cp:lastModifiedBy>annablock</cp:lastModifiedBy>
  <dcterms:modified xsi:type="dcterms:W3CDTF">2008-11-24T17:08:47Z</dcterms:modified>
  <cp:revision>2</cp:revision>
  <dc:subject/>
  <dc:title>Slide 1</dc:title>
</cp:coreProperties>
</file>